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A552-24FE-4D5E-8AD5-51867996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915-1633-47AC-B71C-34A93502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782-DCDC-43B6-A056-2A4F7FB3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E0A5-97CE-4C5F-A2DD-207942A0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2772-68B1-4159-B6B8-BE723AB0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285B-C15C-43FA-840A-030D108E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41F8-2DF8-4A2D-934B-6AF6DC46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5F20-B736-4408-A8D1-843D7CC4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8EBF-76C9-40AA-BA2F-4AF942E9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6A0E-C8C3-41C3-9034-91B88AA3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A349-3CE6-46D4-A94C-E9DBC1AD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78FC-EB96-481C-9A27-356E476C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2090-3E2D-4F53-BB22-BE62C19B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BF81-FC11-49E0-BEA2-0987F565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906A-432D-4F86-9A88-B54FF835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50B3-BB6C-4642-BA05-11C0DD46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0DA3-7BA8-42DE-8CBD-F22EB642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7BD4F-6963-460A-9669-789D176B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E86C8-174B-4B3F-AEF7-C81F5289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EB93E-0FFC-47A3-A2CF-B041F561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664D1-F7CF-4400-9C58-362A8266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5E48F-8D2A-488C-8627-6FE59448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1962-8B71-4626-8D75-0A911580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2726D-898F-4C6B-8B44-F81C09F6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2F880-277D-453A-8238-3EE6147F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AA3DC-861F-4D57-B08F-5192E66E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67A26-B675-4160-BADD-32ED890B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3EA4F-20B6-4D2D-8AFF-A7CF892F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3549C-A7A0-4819-AC20-CDD9BB30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7CD0F-4F7F-4D4B-AEA4-E95734C6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31375-01B1-4AEA-A5BE-6A0B21D1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94AC4-F5EA-4DA7-BE1E-48B918D3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897F0-87C9-4506-BAC1-694A9F83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C537-A3F1-4340-A5C9-AC4CBBA6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958FB-AA3A-4016-8D86-B2DC28AC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E99D7-0583-45E8-9217-B47CB81B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6C16D-8DA5-494E-9323-D99C607D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14684-0936-4B5F-A438-CEC235B5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8DCA3-85E7-473D-86C4-2A58034F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05161-6C34-4D97-AFBC-E1FB66D6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769DC-47BB-4B2D-B32A-1FE4D83D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439C3-7E54-48CF-B471-063D324F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CC66D-06C5-4881-9405-8BF5C4A5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7C884-14F8-42C4-B964-1E16B03D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D81-F292-4173-954C-57C9C92E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04EFE-4CAE-4BD8-9CDA-ED881FE0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55668-6F5F-4317-AD11-2FB42A53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C52FA-9106-4F1B-B9BF-8E88E02C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F4381-4542-4CEC-AD7B-CB88217D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FD309-CAFA-4CDE-B0CF-82154DE3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5ACD9-F5FA-4E13-8D18-2E68FF1B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AE6F8-5D97-4224-A898-6235064F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633E9-3474-4866-BEAA-E390AA22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BB458-CC78-4EA2-8D6F-F954BAEE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AC7C3-87D5-40A6-A324-5833F583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22CA-1B38-49F4-ACC5-9AFE5397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046D5-CDA9-4EFC-B02B-0735FFE3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C685-93BF-4BBB-8F89-48DD031F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56A4-0DC6-4792-B1E1-209D5230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433D-D535-4FA4-A17A-7B85E1AC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BE4D-11DA-408A-906F-B74A51523F5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A168-E29E-400B-B473-497D8D42CBA5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BB1E-8288-418C-BF5C-3FF9B819E88B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DFBE-990C-46EA-A665-95EA2641564E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7196-44E3-4E4D-BA12-8F8CEC965AD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2202480" y="50004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b13f9a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b13f9a"/>
                </a:solidFill>
                <a:latin typeface="Times New Roman"/>
              </a:rPr>
              <a:t>Интегрисане академске студије медиц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6"/>
          <p:cNvSpPr/>
          <p:nvPr/>
        </p:nvSpPr>
        <p:spPr>
          <a:xfrm>
            <a:off x="324000" y="175248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imes New Roman"/>
              </a:rPr>
              <a:t>МОДУЛ </a:t>
            </a:r>
            <a:r>
              <a:rPr b="1" lang="en-US" sz="2400" spc="-1" strike="noStrike">
                <a:solidFill>
                  <a:srgbClr val="b13f9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b13f9a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b13f9a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b13f9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b13f9a"/>
                </a:solidFill>
                <a:latin typeface="Times New Roman"/>
              </a:rPr>
              <a:t>Посебни видови вештине комуник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835280" y="3124080"/>
            <a:ext cx="554508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b13f9a"/>
                </a:solidFill>
                <a:latin typeface="Times New Roman"/>
              </a:rPr>
              <a:t>8. наставна јединица (осм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imes New Roman"/>
              </a:rPr>
              <a:t>Вештина комуникације са особама са менталним поремећаји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imes New Roman"/>
              </a:rPr>
              <a:t>Комуникација са геријатријском популациј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3747240" y="5997600"/>
            <a:ext cx="42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13f9a"/>
                </a:solidFill>
                <a:latin typeface="Times New Roman"/>
              </a:rPr>
              <a:t>Проф. др Драгана Игњатовић Рист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тудент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ож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слуша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д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рц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л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исањ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д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вог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лег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имени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чењ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сихијатријск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опедевтик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еч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с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чин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з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ог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злог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ож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мог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сматрањ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нтеракци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oll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la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y)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г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ре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зговор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о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нимањ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нтервју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еђ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туденти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нализ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стог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ож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и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обр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ежб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чењ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ских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ешти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311040" y="317520"/>
            <a:ext cx="739476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ећај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век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игур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ок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ичај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сихијатријски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и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нтелектуално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ећ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иш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азично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ећај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игур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зглед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сихијатријског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ескућник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лкохолисан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оведен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лиц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ргент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центар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)...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..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 Општ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аргинализац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сихијатријских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ат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311040" y="317520"/>
            <a:ext cx="739476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јав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кундарних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енталних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имптом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д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та који болују од соматских болест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рл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рз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кључуј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зивањ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сихијатр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удент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клањај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”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аквог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т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раћ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овољн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жњ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вратној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нформациј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та-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ак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н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ид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нтервј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м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чествова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ад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ехникам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спешн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муникациј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овор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овољн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ољим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ерапијским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огућностим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енталних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ремећај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пшт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аргинализациј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сихијатријских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ат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аничној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фаз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олес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мај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лош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жњ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бог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ог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еш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а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ложе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нструкци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то, комуникац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реб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уд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ас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зик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дноставан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дсећање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нов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аж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а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ољ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памти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дсетниц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ажни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етаљи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дељењ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акођ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ог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могн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спостави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ез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едстави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уди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љубазн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а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год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збуђен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етић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твар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њег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а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ож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ерова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и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исутан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нач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ас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ист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нтересу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 манично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епресивно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дна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нач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а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мај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зличи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треб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воји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ступци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кажи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аничан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л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епресиван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)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аж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об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д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упрот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нфузнос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езвреднос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езнађ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есимиз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лаз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буд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жељ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цир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храбри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г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став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стави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зум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граничењ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аничног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ас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ефиниши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чекивањ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епресивног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нет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з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бавез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важавањ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ат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уди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аутентични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, 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покажите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емпатију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, 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позитивно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охрабривање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и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топлину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ek to provide the basic human needs identified by Maslow (1968): life/survival, safety/security, belonging/affection, respect/self-respect, and self-actualiz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Ефикса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хизофрени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о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себ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аж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т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а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ла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еплав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тимулуси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з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пољашњ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реди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обр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ож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начај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оприне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његов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родиц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стан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спеш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вакодневни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ктивности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обр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кључу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на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А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цира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.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на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ЧЕМ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цира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3.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на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А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цира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201600" y="317520"/>
            <a:ext cx="7504200" cy="1193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искутова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шт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аж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ви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и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а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љу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л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знемирен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а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еш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ас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змишља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еш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обр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луша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фокусира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нструктив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ешењ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в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реб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мири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зговара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оцес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змене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нформација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еко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оговореног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истема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знакова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а- </a:t>
            </a:r>
            <a:r>
              <a:rPr b="1" lang="en-US" sz="2600" spc="-1" strike="noStrike">
                <a:solidFill>
                  <a:srgbClr val="a34b73"/>
                </a:solidFill>
                <a:latin typeface="Trebuchet MS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главн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имензи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држај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форм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циљ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једно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држај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фор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реирају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sr-RS" sz="2600" spc="-1" strike="noStrike">
                <a:solidFill>
                  <a:srgbClr val="a34b73"/>
                </a:solidFill>
                <a:latin typeface="Trebuchet MS"/>
              </a:rPr>
              <a:t>порук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шаљу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 неким циљем.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201600" y="317520"/>
            <a:ext cx="7504200" cy="11937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забра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ДН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ажн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твар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з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ноштв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них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то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ед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о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родиц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 ex., say, "John, please stop playing your radio so loudly after 1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.m." Don't say, "John, you're too noisy at night."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le 1" descr=""/>
          <p:cNvPicPr/>
          <p:nvPr/>
        </p:nvPicPr>
        <p:blipFill>
          <a:blip r:embed="rId1"/>
          <a:stretch/>
        </p:blipFill>
        <p:spPr>
          <a:xfrm>
            <a:off x="201600" y="317520"/>
            <a:ext cx="7504200" cy="11937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ербално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иво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к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в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уд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дностав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ратк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пецифич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вербла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дразумев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он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глас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ложај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ел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нтакт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чи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зраз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лиц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физичк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даљеност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змеђ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об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b13f9a"/>
                </a:solidFill>
                <a:latin typeface="Trebuchet MS"/>
              </a:rPr>
              <a:t>Неверб</a:t>
            </a:r>
            <a:r>
              <a:rPr b="0" lang="sr-Latn-RS" sz="2600" spc="-1" strike="noStrike">
                <a:solidFill>
                  <a:srgbClr val="b13f9a"/>
                </a:solidFill>
                <a:latin typeface="Trebuchet MS"/>
              </a:rPr>
              <a:t>a</a:t>
            </a:r>
            <a:r>
              <a:rPr b="0" lang="sr-RS" sz="2600" spc="-1" strike="noStrike">
                <a:solidFill>
                  <a:srgbClr val="b13f9a"/>
                </a:solidFill>
                <a:latin typeface="Trebuchet MS"/>
              </a:rPr>
              <a:t>лана</a:t>
            </a:r>
            <a:r>
              <a:rPr b="0" lang="sr-Latn-RS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b13f9a"/>
                </a:solidFill>
                <a:latin typeface="Trebuchet MS"/>
              </a:rPr>
              <a:t>порука</a:t>
            </a:r>
            <a:r>
              <a:rPr b="0" lang="sr-Latn-RS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b13f9a"/>
                </a:solidFill>
                <a:latin typeface="Trebuchet MS"/>
              </a:rPr>
              <a:t>има</a:t>
            </a:r>
            <a:r>
              <a:rPr b="0" lang="sr-Latn-RS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b13f9a"/>
                </a:solidFill>
                <a:latin typeface="Trebuchet MS"/>
              </a:rPr>
              <a:t>већу</a:t>
            </a:r>
            <a:r>
              <a:rPr b="0" lang="sr-Latn-RS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b13f9a"/>
                </a:solidFill>
                <a:latin typeface="Trebuchet MS"/>
              </a:rPr>
              <a:t>специфичну</a:t>
            </a:r>
            <a:r>
              <a:rPr b="0" lang="sr-Latn-RS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b13f9a"/>
                </a:solidFill>
                <a:latin typeface="Trebuchet MS"/>
              </a:rPr>
              <a:t>тежину</a:t>
            </a:r>
            <a:r>
              <a:rPr b="0" lang="sr-Latn-RS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b13f9a"/>
                </a:solidFill>
                <a:latin typeface="Trebuchet MS"/>
              </a:rPr>
              <a:t>од</a:t>
            </a:r>
            <a:r>
              <a:rPr b="0" lang="sr-Latn-RS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b13f9a"/>
                </a:solidFill>
                <a:latin typeface="Trebuchet MS"/>
              </a:rPr>
              <a:t>вербалне</a:t>
            </a:r>
            <a:r>
              <a:rPr b="0" lang="sr-Latn-RS" sz="2600" spc="-1" strike="noStrike">
                <a:solidFill>
                  <a:srgbClr val="b13f9a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КАЖИТЕ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таријој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оби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ас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на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нима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желите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 је боље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познате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те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скрени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жељи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ој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могнет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збегават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тереотип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тар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људ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у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олесн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граничених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пособност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оценит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нзорн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пособност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лух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ид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илагодит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оценит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сихосоцијалн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треб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зумет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њихов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квир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њивост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трахов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281160" y="317520"/>
            <a:ext cx="7424640" cy="1150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оценит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пособност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уочавањ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облеми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з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зговор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знат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ако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у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осил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ешкоћам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оценит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емоционално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тањ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оценит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требу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моћ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дстицат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висност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ругих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колико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и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ужн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новит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колико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ут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им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олесник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д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смеравањ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жњ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ристит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ратк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ечениц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здава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путств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д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дн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цирајти 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одир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дустани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хтев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епознат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фрустрацију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гресиј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нављању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ст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ич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смерит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жњу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об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циљ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озволи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ругој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соб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овор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лушај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жљив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учи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овори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варим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ј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анимају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руг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људ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уди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презн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ритикам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жљив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сказуј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ахтев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изнај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вој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 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решк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Хвали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н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редн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хвал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Покушајте</a:t>
            </a:r>
            <a:r>
              <a:rPr b="1" lang="sr-Latn-C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да</a:t>
            </a:r>
            <a:r>
              <a:rPr b="1" lang="sr-Latn-C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замислите</a:t>
            </a:r>
            <a:r>
              <a:rPr b="1" lang="sr-Latn-C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себе</a:t>
            </a:r>
            <a:r>
              <a:rPr b="1" lang="sr-Latn-C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у</a:t>
            </a:r>
            <a:r>
              <a:rPr b="1" lang="sr-Latn-C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улози</a:t>
            </a:r>
            <a:r>
              <a:rPr b="1" lang="sr-Latn-C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другог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збегавај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вађу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отивречит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кажи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обр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асположењ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е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ла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чито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ла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ха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е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ењем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ти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зациј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зорн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агал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очари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ни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арати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о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ји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годит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г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ла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о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јо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ј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л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збег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а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рл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уч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вук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зненад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кре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век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днетификује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б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ад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иближава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об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еци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во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мер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г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чне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зговор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огућ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храбри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об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лабијег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и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ос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очар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к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очар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уд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чис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иоптр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овере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иближ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т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ране лиц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рат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т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лицем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лиц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слов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т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меном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жн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одирнит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овор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пориј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асниј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овор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ижим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лас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рист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вербалн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муникациј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пиш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шт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ак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требн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Ак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соб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рист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лушн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апарат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храбр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љ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рист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авезн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овер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л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атериј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апарат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справн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ешкоћ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лажењ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ав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еч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нављањ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обичајених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зраз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еч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потреб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ових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еч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писал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обичаје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ермин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Ла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губљењ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ок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исл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ешкоћ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државањ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логичнос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злагањ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в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еђ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цирањ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в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ањ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ич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в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ећ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лањањ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гестикулациј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ди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г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говор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Вербална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 се оствару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sr-RS" sz="2600" spc="-1" strike="noStrike">
                <a:solidFill>
                  <a:srgbClr val="a34b73"/>
                </a:solidFill>
                <a:latin typeface="Trebuchet MS"/>
              </a:rPr>
              <a:t>говором и писм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ff00"/>
                </a:solidFill>
                <a:latin typeface="Trebuchet MS"/>
              </a:rPr>
              <a:t>Невербална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твару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ff00"/>
                </a:solidFill>
                <a:latin typeface="Trebuchet MS"/>
              </a:rPr>
              <a:t>невербалним</a:t>
            </a:r>
            <a:r>
              <a:rPr b="0" lang="en-US" sz="2600" spc="-1" strike="noStrike">
                <a:solidFill>
                  <a:srgbClr val="00ff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ff00"/>
                </a:solidFill>
                <a:latin typeface="Trebuchet MS"/>
              </a:rPr>
              <a:t>знаковим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Основни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комуникацијски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алат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људск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lang="sr-RS" sz="2600" spc="-1" strike="noStrike">
                <a:solidFill>
                  <a:srgbClr val="ffff00"/>
                </a:solidFill>
                <a:latin typeface="Trebuchet MS"/>
              </a:rPr>
              <a:t>језик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фундамнтал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в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људск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ел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ци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Током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очетн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фаз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олел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ћ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мат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облем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зиком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маћ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тешкоћ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ат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нверзацију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учић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онађ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аву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еч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олелом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ћ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ребати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иш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ремен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азмисл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ном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у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екл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ако би требало да одговор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ожд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ћ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чак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писиват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н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жел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мест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менуј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требну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вар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имер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„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н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вар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ој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ст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“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мест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„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четкиц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уб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„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вакв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итуациј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фрустрирајућ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олелог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итн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казати довољн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рпљењ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бог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борављањ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огађаја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з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лиске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ошл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бог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мањен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пособност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нцентрациј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бог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спорено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дговор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тимулус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з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колин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бог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облем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лухом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ид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бог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могућност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читањ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л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зумевањ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општ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itle 1" descr=""/>
          <p:cNvPicPr/>
          <p:nvPr/>
        </p:nvPicPr>
        <p:blipFill>
          <a:blip r:embed="rId1"/>
          <a:stretch/>
        </p:blipFill>
        <p:spPr>
          <a:xfrm>
            <a:off x="285840" y="79200"/>
            <a:ext cx="7419960" cy="1389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тешкоћа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онађе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аву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еч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бог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чега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њихов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говор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разумљи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тешкоћ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рганизу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еч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л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логичк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змишљ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в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чешћ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лањањ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вербалну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гестикулациј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болел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жел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иком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теж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итуацију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ећ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тежан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езултат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оле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„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еалност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“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болелог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еома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зликује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тварне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еалности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–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болели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лзхеимерове</a:t>
            </a: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олести</a:t>
            </a: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живи</a:t>
            </a: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војој</a:t>
            </a: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стин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кажит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лушат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зумет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шт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болел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кушав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ам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аж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Фокусирајте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осећања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чињениц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гласит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ажност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но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болел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мож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рад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ипремите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обу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но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ће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ледеће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огоди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удит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еалн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;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удит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трпљив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справљајт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ритикујт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мојт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справљат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болелог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држит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мисао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хумор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памтит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г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м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об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болел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Alzheimerove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оле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Уколико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понашање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може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нашкоди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ни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оболелом</a:t>
            </a: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ни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осталима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допустите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sr-RS" sz="2600" spc="-1" strike="noStrike">
                <a:solidFill>
                  <a:srgbClr val="000000"/>
                </a:solidFill>
                <a:latin typeface="Trebuchet MS"/>
              </a:rPr>
              <a:t>спонатано</a:t>
            </a: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sr-RS" sz="2600" spc="-1" strike="noStrike">
                <a:solidFill>
                  <a:srgbClr val="000000"/>
                </a:solidFill>
                <a:latin typeface="Trebuchet MS"/>
              </a:rPr>
              <a:t>одвиј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Оно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ви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кажете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оно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оболели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том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тренутку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чује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најчешће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су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две</a:t>
            </a: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различите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ствар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b13f9a"/>
                </a:solidFill>
                <a:latin typeface="Trebuchet MS"/>
              </a:rPr>
              <a:t>Третирајте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b13f9a"/>
                </a:solidFill>
                <a:latin typeface="Trebuchet MS"/>
              </a:rPr>
              <a:t>оболелог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b13f9a"/>
                </a:solidFill>
                <a:latin typeface="Trebuchet MS"/>
              </a:rPr>
              <a:t>са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b13f9a"/>
                </a:solidFill>
                <a:latin typeface="Trebuchet MS"/>
              </a:rPr>
              <a:t>поштовање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Користите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једноставне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речи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разумљив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језик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кратке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речениц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b13f9a"/>
                </a:solidFill>
                <a:latin typeface="Trebuchet MS"/>
              </a:rPr>
              <a:t>Не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b13f9a"/>
                </a:solidFill>
                <a:latin typeface="Trebuchet MS"/>
              </a:rPr>
              <a:t>комуницирати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b13f9a"/>
                </a:solidFill>
                <a:latin typeface="Trebuchet MS"/>
              </a:rPr>
              <a:t>као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b13f9a"/>
                </a:solidFill>
                <a:latin typeface="Trebuchet MS"/>
              </a:rPr>
              <a:t>са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b13f9a"/>
                </a:solidFill>
                <a:latin typeface="Trebuchet MS"/>
              </a:rPr>
              <a:t>малим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b13f9a"/>
                </a:solidFill>
                <a:latin typeface="Trebuchet MS"/>
              </a:rPr>
              <a:t>детет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b13f9a"/>
                </a:solidFill>
                <a:latin typeface="Trebuchet MS"/>
              </a:rPr>
              <a:t>Не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b13f9a"/>
                </a:solidFill>
                <a:latin typeface="Trebuchet MS"/>
              </a:rPr>
              <a:t>односити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b13f9a"/>
                </a:solidFill>
                <a:latin typeface="Trebuchet MS"/>
              </a:rPr>
              <a:t>се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b13f9a"/>
                </a:solidFill>
                <a:latin typeface="Trebuchet MS"/>
              </a:rPr>
              <a:t>према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b13f9a"/>
                </a:solidFill>
                <a:latin typeface="Trebuchet MS"/>
              </a:rPr>
              <a:t>пацијенту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b13f9a"/>
                </a:solidFill>
                <a:latin typeface="Trebuchet MS"/>
              </a:rPr>
              <a:t>као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b13f9a"/>
                </a:solidFill>
                <a:latin typeface="Trebuchet MS"/>
              </a:rPr>
              <a:t>да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b13f9a"/>
                </a:solidFill>
                <a:latin typeface="Trebuchet MS"/>
              </a:rPr>
              <a:t>је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b13f9a"/>
                </a:solidFill>
                <a:latin typeface="Trebuchet MS"/>
              </a:rPr>
              <a:t>ствар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, </a:t>
            </a:r>
            <a:r>
              <a:rPr b="1" lang="sr-RS" sz="2600" spc="-1" strike="noStrike">
                <a:solidFill>
                  <a:srgbClr val="b13f9a"/>
                </a:solidFill>
                <a:latin typeface="Trebuchet MS"/>
              </a:rPr>
              <a:t>а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b13f9a"/>
                </a:solidFill>
                <a:latin typeface="Trebuchet MS"/>
              </a:rPr>
              <a:t>не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b13f9a"/>
                </a:solidFill>
                <a:latin typeface="Trebuchet MS"/>
              </a:rPr>
              <a:t>људско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b13f9a"/>
                </a:solidFill>
                <a:latin typeface="Trebuchet MS"/>
              </a:rPr>
              <a:t>бић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Ословљавајте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особу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именом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комуницирајте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тек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када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уверите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имате</a:t>
            </a: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њихову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пажњ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Дајте</a:t>
            </a: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им</a:t>
            </a: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времена</a:t>
            </a: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реагуј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упадајте</a:t>
            </a: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им</a:t>
            </a: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реч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Ако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му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„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онестан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“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речи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дискретно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му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онудит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решењ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зраз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реч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итања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нструкциј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формулишит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озитивном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смисл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ратит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нихову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невербалну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комуникацију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нарочито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мимик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Кратко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јасно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м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објасните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сваки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оступак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ли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роцедуру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ре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него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риступи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реализациј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Утврдите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доба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дана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када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су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комуникацијуски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најспособниј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Будите</a:t>
            </a:r>
            <a:r>
              <a:rPr b="1" lang="en-U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емпатичн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е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е само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7% </a:t>
            </a:r>
            <a:r>
              <a:rPr b="1" lang="sr-RS" sz="26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вербална</a:t>
            </a:r>
            <a:r>
              <a:rPr b="1" lang="sr-Latn-RS" sz="26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8%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2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5%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сте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евербална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а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у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лелу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zheim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v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„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рече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зик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ј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иј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варање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х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Шт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врх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цирањ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?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луша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и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слушан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Чест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лушам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жљив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говор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зјасним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век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начењ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ног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чујем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мест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ог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бацујем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во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нтерпретаци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во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хавтањ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ног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ече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в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ож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и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рл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зличит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нтенци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шег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говорник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узданос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ктив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лушањ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ез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осуђивањ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важавањ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злик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истем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ред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ез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етпоставк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утентичнос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‘‘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jor mental illness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e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’’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јчешћ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дразумевам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schizo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phreniju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раноди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ремећа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руг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органск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сихоз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фектив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ре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ћај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иполар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фектив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ремећај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нксиоз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ремећа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нич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псесив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пулзив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ремећај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горафоб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)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сихотични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ремећаји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сто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начај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метањ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дезорганизован</a:t>
            </a: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говор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езорганизова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нашањ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л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атато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феноме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х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луцин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ци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е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времени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мерница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вак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лекар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ребал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пособ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око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школовањ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ијагностику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леч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л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зум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треб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ат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ји болују од менталних пормећаја. 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Едукац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туденат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ешти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цирањ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оба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олуј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енталних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рмећа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начај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ћ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оприне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валитет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ретма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в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улнерабил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пулаци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Циљ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едукаци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 бољу комуникацију- повећањ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нањ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ви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олести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времни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ласификациони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истемим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линичк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еродостојан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пис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сихијатријских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ремећа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а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еалистич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ерапијск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чекивањ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чењ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ешти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цирањ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болели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енталнеог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ремећа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војој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ушти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ст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а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нтерној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едици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имер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i="1" lang="sr-RS" sz="2600" spc="-1" strike="noStrike">
                <a:solidFill>
                  <a:srgbClr val="b13f9a"/>
                </a:solidFill>
                <a:latin typeface="Trebuchet MS"/>
              </a:rPr>
              <a:t>Али</a:t>
            </a:r>
            <a:r>
              <a:rPr b="0" i="1" lang="sr-Latn-RS" sz="2600" spc="-1" strike="noStrike">
                <a:solidFill>
                  <a:srgbClr val="b13f9a"/>
                </a:solidFill>
                <a:latin typeface="Trebuchet MS"/>
              </a:rPr>
              <a:t>, </a:t>
            </a:r>
            <a:r>
              <a:rPr b="0" i="1" lang="sr-RS" sz="2600" spc="-1" strike="noStrike">
                <a:solidFill>
                  <a:srgbClr val="b13f9a"/>
                </a:solidFill>
                <a:latin typeface="Trebuchet MS"/>
              </a:rPr>
              <a:t>практично</a:t>
            </a:r>
            <a:r>
              <a:rPr b="0" i="1" lang="sr-Latn-RS" sz="2600" spc="-1" strike="noStrike">
                <a:solidFill>
                  <a:srgbClr val="b13f9a"/>
                </a:solidFill>
                <a:latin typeface="Trebuchet MS"/>
              </a:rPr>
              <a:t>, </a:t>
            </a:r>
            <a:r>
              <a:rPr b="0" i="1" lang="sr-RS" sz="2600" spc="-1" strike="noStrike">
                <a:solidFill>
                  <a:srgbClr val="b13f9a"/>
                </a:solidFill>
                <a:latin typeface="Trebuchet MS"/>
              </a:rPr>
              <a:t>то</a:t>
            </a:r>
            <a:r>
              <a:rPr b="0" i="1" lang="sr-Latn-RS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i="1" lang="sr-RS" sz="2600" spc="-1" strike="noStrike">
                <a:solidFill>
                  <a:srgbClr val="b13f9a"/>
                </a:solidFill>
                <a:latin typeface="Trebuchet MS"/>
              </a:rPr>
              <a:t>је</a:t>
            </a:r>
            <a:r>
              <a:rPr b="0" i="1" lang="sr-Latn-RS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i="1" lang="sr-RS" sz="2600" spc="-1" strike="noStrike">
                <a:solidFill>
                  <a:srgbClr val="b13f9a"/>
                </a:solidFill>
                <a:latin typeface="Trebuchet MS"/>
              </a:rPr>
              <a:t>мало</a:t>
            </a:r>
            <a:r>
              <a:rPr b="0" i="1" lang="sr-Latn-RS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i="1" lang="sr-RS" sz="2600" spc="-1" strike="noStrike">
                <a:solidFill>
                  <a:srgbClr val="b13f9a"/>
                </a:solidFill>
                <a:latin typeface="Trebuchet MS"/>
              </a:rPr>
              <a:t>другачије</a:t>
            </a:r>
            <a:r>
              <a:rPr b="0" i="1" lang="sr-Latn-RS" sz="2600" spc="-1" strike="noStrike">
                <a:solidFill>
                  <a:srgbClr val="b13f9a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EDF</dc:creator>
  <dc:description/>
  <dc:language>en-US</dc:language>
  <cp:lastModifiedBy>Slavica</cp:lastModifiedBy>
  <dcterms:modified xsi:type="dcterms:W3CDTF">2017-01-28T18:48:29Z</dcterms:modified>
  <cp:revision>18</cp:revision>
  <dc:subject/>
  <dc:title>ВЕШТИНА КОМУНИКАЦИЈЕ СА ОСОБАМА СА МЕНТАЛНИМ ПОРЕМЕЋАЈИМА. КОМУНИКАЦИЈА СА ГЕРИЈАТРИЈСКОМ ПОПУЛАЦИЈОМ </dc:title>
</cp:coreProperties>
</file>